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那么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Objective-C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是怎么判定一个对象不再需要的？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定义一个</a:t>
            </a:r>
            <a:r>
              <a:rPr b="0" lang="en-US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Person</a:t>
            </a: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对象，在</a:t>
            </a:r>
            <a:r>
              <a:rPr b="0" lang="en-US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main</a:t>
            </a: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函数中用</a:t>
            </a:r>
            <a:r>
              <a:rPr b="0" lang="en-US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2</a:t>
            </a: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个对象引用和</a:t>
            </a:r>
            <a:r>
              <a:rPr b="0" lang="en-US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1</a:t>
            </a: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个数组来测试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007f"/>
                </a:solidFill>
                <a:latin typeface="Menlo Regular"/>
                <a:ea typeface="Heiti SC Light"/>
              </a:rPr>
              <a:t>再测试一下，一个对象为另外一个对象替代了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十五章：内存管理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Object</a:t>
            </a:r>
            <a:r>
              <a:rPr b="0" lang="zh-CN" sz="7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内存管理的方法</a:t>
            </a:r>
            <a:endParaRPr b="0" lang="en-US" sz="7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96880" y="1714320"/>
            <a:ext cx="11810880" cy="792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获得对象当前引用计数的方法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tainCount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返回当前对象的引用计数值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获得对象所有权的方法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lloc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分配内存，将对象的引用计数设置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py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拷贝对象，将对象的引用计数设置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tain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使对象的引用计数值加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释放对象所有权的方法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leas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使对象的引用计数值减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utoreleas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我们不想取得对象所有权，又不希望对象被释放，使对象交给自动释放池处理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释放对象内存空间的方法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alloc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释放内存空间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自动释放池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60240" y="2044440"/>
            <a:ext cx="1192536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果某个对象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自动释放池创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(NSAutoreleasePool *pool = [[NSAutoreleasePool alloc]init]) 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与 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[pool drain]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之间使用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[obj autorelease] 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则该对象将会被放在自动释放池中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在执行</a:t>
            </a:r>
            <a:r>
              <a:rPr b="0" lang="en-US" sz="3000" spc="-1" strike="noStrike">
                <a:solidFill>
                  <a:srgbClr val="ffff00"/>
                </a:solidFill>
                <a:latin typeface="Courier New"/>
                <a:ea typeface="Courier New"/>
              </a:rPr>
              <a:t>[pool drain]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后，池中每个对象引用计数减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（并非清零）；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自动释放池并未包含对象本身，而是关于对象的引用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由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alloc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创建的对象不会自动入池，须通过手动发送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autorelease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消息，可以将一个对象添加到其中，以便以后释放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对放入到自动释放池中的对象，不要轻易调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release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自动释放池的效率并不高，所以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iphone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开发时，并不建议使用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06440" y="2692440"/>
            <a:ext cx="1219212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在开发复杂的应用中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程序中可以有多个自动释放池，并且它们可以是嵌套的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NSAutoreleasePool *tempPool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for (i = 0; i &lt; n; ++i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tempPool = [[NSAutoReleasePool 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...  // lots of work with temporary objects he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[tempPool drai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自动释放池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垃圾回收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"/>
          <p:cNvSpPr/>
          <p:nvPr/>
        </p:nvSpPr>
        <p:spPr>
          <a:xfrm>
            <a:off x="673200" y="2711520"/>
            <a:ext cx="11645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Objective-C2.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开始提供了垃圾回收，有了垃圾回收，就不必考虑有关保持和释放对象、自动释放或引用计数了。系统会自动处理内存问题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Monaco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Monaco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即使有垃圾回收机制也许深入了解内存管理，因为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iPh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运行时环境不支持垃圾回收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内存管理规则（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146320"/>
            <a:ext cx="1132848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释放对象，可以释放它所占用的内存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发送一条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lease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消息不一定销毁对象，当一个对象的引用计数变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时，才销毁这个对象，系统通过向该对象发送一条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allo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消息来释放它所占的内存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永远不要直接调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allo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来释放对象，只使用引用计数来完成对象的释放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无论对象是否添加到自动释放池，应用程序终止时，都会释放程序中对象占用的所有内存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内存管理规则（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91600" y="2247840"/>
            <a:ext cx="1225548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更复杂的应用程序时，可以程序运行期间创建和销毁自动释放池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如果使用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alloc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及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方法创建对象，则由你负责释放它，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 每次使用显式或隐式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tain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时，应该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leas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或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utoreleas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它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除上一个规则提到的方法之外，不必费心地释放其他方法返回的对象，这不是你负责任；这些对象应当被自动释放，这就是为什么首先需要在程序中创建自动释放池的原因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stringWithString: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之类的方法自动向新创建的字符串对象发送一条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autorelease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Heiti SC Light"/>
              </a:rPr>
              <a:t>消息，把它们添加到自动释放池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内存管理规则（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3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2440" y="2057040"/>
            <a:ext cx="11747520" cy="662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各种容器类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Dictionar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e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等，会将引入的元素的引用计数值加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来获得所有权，而在元素被移除或者整个容器对象释放时，释放容器内元素的所有权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最好在需要时再创建，从而节约内存开销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需要频繁分配和释放内存的地方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：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r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循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可以创建自己的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utoreleasePoo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内存管理规则（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4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514600"/>
            <a:ext cx="1046484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对象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allo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中释放所拥有的实例变量并调用父类的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allo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释放自动释放池时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池中每个对象引用计数减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（并非清零）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发中不支持垃圾回收机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重要性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"/>
          <p:cNvSpPr/>
          <p:nvPr/>
        </p:nvSpPr>
        <p:spPr>
          <a:xfrm>
            <a:off x="901800" y="2876400"/>
            <a:ext cx="114552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一代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 3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内存大小均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28MB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 3G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扩充到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56MB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。同样地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a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内存大小也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56MB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 4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内存升级到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512M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但是其中一半容量用于屏幕缓冲和其他系统进程，所有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只有大约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64M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内存用来运行应用程序，基本上不容许我们开发软件存在任何内存泄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phone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内存管理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526840"/>
            <a:ext cx="10464840" cy="56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当一个对象不再需要时，要及时释放它所占用的内存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采用了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引用计数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处理内存管理，简单讲，每个对象有一个与之关联的整数，可以将它称为引用计数器或保留计数器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大于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时，代表对象还有引用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等于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时，代表对象可以释放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0280" y="2603520"/>
            <a:ext cx="11391840" cy="67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tainCou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消息可以获得这个对象的引用计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返回的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NSUIntege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整数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每一次必须保持该对象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就发送一条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tai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消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使其引用次数加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如：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[person retain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不再需要对象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通过发送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le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消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使对象的引用次数减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如 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[person release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将对象添加到任何类型的容器类中都会使该对象的引用计数增加。从任何容器类中删除对象都能够使其引用计数减少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6400" y="2222280"/>
            <a:ext cx="12458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当对象的引用计数不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0,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系统就不会释放对象使用的内存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当对象的引用计数达到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时，系统就知道不再需要这个对象，系统就会释放它内存，这时系统会自动发送一条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</a:rPr>
              <a:t>deallo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消息来实现（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 我们不能自行调用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dealloc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方法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，必须严格使用引用计数机制来控制内存的分配和释放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和实例变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>
            <a:off x="1473120" y="2724120"/>
            <a:ext cx="10299960" cy="59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-(void)setSec:(Secretary)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sec = s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考虑下面问题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在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main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函数中释放了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s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那么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b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中的实例变量怎么办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2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原来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b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实例变量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sec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的值怎么办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3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什么时候释放这些实例变量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引用计数和实例变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1486080" y="2254320"/>
            <a:ext cx="1029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-(void)setSec:(Secretary)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sec = s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考虑下面问题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在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main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函数中释放了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s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那么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b1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中的实例变量怎么办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答：对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1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调用执行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retain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方法；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2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原来</a:t>
            </a: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sec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的值怎么办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答：当原来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ec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不为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il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，调用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release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；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3</a:t>
            </a:r>
            <a:r>
              <a:rPr b="0" lang="zh-CN" sz="3000" spc="-1" strike="noStrike">
                <a:solidFill>
                  <a:srgbClr val="ffff00"/>
                </a:solidFill>
                <a:latin typeface="Menlo Regular"/>
                <a:ea typeface="Heiti SC Light"/>
              </a:rPr>
              <a:t>，什么时候释放这些实例变量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答：重写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dealloc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方法；做法：释放实例变量，并且调用父类中的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dealloc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方法；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存取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2495520"/>
            <a:ext cx="104648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 2.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propert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来设置实例变量的各种属性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读写属性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readwrite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/readonly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赋值语义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assign/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retain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/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copy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对多线程的支持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automicity,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nonatomic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注：并且每组的各个选项只可以出现一个或不出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@property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各个参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507960" y="1636560"/>
          <a:ext cx="11988720" cy="7505640"/>
        </p:xfrm>
        <a:graphic>
          <a:graphicData uri="http://schemas.openxmlformats.org/drawingml/2006/table">
            <a:tbl>
              <a:tblPr/>
              <a:tblGrid>
                <a:gridCol w="4262400"/>
                <a:gridCol w="7726320"/>
              </a:tblGrid>
              <a:tr h="6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参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意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95000"/>
                      </a:blip>
                      <a:tile tx="0" ty="0" sx="100000" sy="100000" algn="ctr"/>
                    </a:blipFill>
                  </a:tcPr>
                </a:tc>
              </a:tr>
              <a:tr h="6796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readwrit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设置变量可读可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readonly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设置变量为只读（只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getter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方法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assig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为变量直接赋值，一般用于基本数据类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retai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先释放变量对旧值的所有权，即先对变量进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release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操作；然后使变量占有对新赋值的值所有权，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variable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＝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[newDate retain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copy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先释放变量对旧值的所有权，即先对变量进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release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操作； 再复制作为参数的新值，并将复制完成的副本赋值给该变量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常用于字符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 </a:t>
                      </a: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onatomic/atomicity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关于线程的设置，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phone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中只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onatomic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，表示程序不需要多线程，从而避免生成额外的代码，从而提高效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